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3A9-265B-4EA2-AD45-D2799A42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0CE-3586-4C36-B4F1-1D6CB0D1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517-3437-416A-A537-B80E01B9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99A-BA42-4355-A985-0DEBF4FC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FD0-8200-4E25-82B6-03748941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E0D-2260-4434-A992-129CFB18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659-68B8-4F5E-8D24-A857F952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F78-2833-40C2-8905-65AA4356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7DD-E4F4-41C5-9675-F7961B9E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3F1-5C02-4B9C-AAC8-001F2034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F15-59C8-474B-8E10-3A5F37C6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AA9-187E-4011-AA98-228498D4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DFB2-98A3-4FFC-BED7-5186C02B5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68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’s Topic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1295280"/>
            <a:ext cx="8763120" cy="15242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The American Dr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48120"/>
            <a:ext cx="7696440" cy="358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a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sson on ho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urs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erican D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dern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kind of lesson abou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D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:  What is Chaplin’s take on his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:  Could this film be relevant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609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creation was ‘many-sided,’ Chaplin said, ‘a tramp, a gentleman, a poet, a dreamer, a lonely fellow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ways hope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omance and adventure…not above picking up cigarette butts or robbing a baby of its candy.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eightens 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nse of survi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eserves our sanity…because of humor we are less overwhelmed by the vicissitudes of life.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ramatized how today’s working man too easily becomes tomorrow’s homeless tramp, the opening concept in Modern Time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57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228600" y="5486400"/>
            <a:ext cx="52578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ck up–never say die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04920"/>
            <a:ext cx="7848720" cy="21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5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I was wrong to kill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room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Man in the atomic ag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ww.shoutmouth.com/index.php/news/2126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Dream’s transition through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4343400" cy="566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dern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arfa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’s A Wonderful Li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rma R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7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all Stre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9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cial Network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1255200">
            <a:off x="4114440" y="53316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9815" t="0" r="28172" b="0"/>
          <a:stretch/>
        </p:blipFill>
        <p:spPr>
          <a:xfrm>
            <a:off x="6095880" y="0"/>
            <a:ext cx="25606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04920"/>
            <a:ext cx="50292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“Tramp” play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lie Chap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05120"/>
            <a:ext cx="4876560" cy="388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cogn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c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history of 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the Tra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066680"/>
            <a:ext cx="2667240" cy="548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oks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066680"/>
            <a:ext cx="2666880" cy="548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s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066680"/>
            <a:ext cx="2666880" cy="548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ymboliz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228600"/>
            <a:ext cx="5029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ing Contra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9815" t="0" r="28172" b="0"/>
          <a:stretch/>
        </p:blipFill>
        <p:spPr>
          <a:xfrm>
            <a:off x="457200" y="0"/>
            <a:ext cx="2560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38480" y="1143000"/>
            <a:ext cx="4114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aggy 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ondi"/>
              </a:rPr>
              <a:t>Too Tight 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437920" y="1752480"/>
            <a:ext cx="2133720" cy="533520"/>
          </a:xfrm>
          <a:prstGeom prst="line">
            <a:avLst/>
          </a:prstGeom>
          <a:ln w="130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1828800"/>
            <a:ext cx="2057400" cy="990720"/>
          </a:xfrm>
          <a:prstGeom prst="line">
            <a:avLst/>
          </a:prstGeom>
          <a:ln w="130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048120"/>
            <a:ext cx="4114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ig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ondi"/>
              </a:rPr>
              <a:t>Little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514600" y="609120"/>
            <a:ext cx="2286000" cy="3429000"/>
          </a:xfrm>
          <a:prstGeom prst="line">
            <a:avLst/>
          </a:prstGeom>
          <a:ln w="130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819520" y="3657600"/>
            <a:ext cx="2133360" cy="2438280"/>
          </a:xfrm>
          <a:prstGeom prst="line">
            <a:avLst/>
          </a:prstGeom>
          <a:ln w="130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5029200"/>
            <a:ext cx="533376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Working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ondi"/>
              </a:rPr>
              <a:t>Trying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ondi"/>
              </a:rPr>
              <a:t>High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311720" cy="6248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04920" y="457200"/>
            <a:ext cx="39621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Modern Times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-1936-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743200"/>
            <a:ext cx="434340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is the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chin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nef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k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not spell trag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row it out of work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arlie_chaplin" descr=""/>
          <p:cNvPicPr/>
          <p:nvPr/>
        </p:nvPicPr>
        <p:blipFill>
          <a:blip r:embed="rId1"/>
          <a:srcRect l="20479" t="0" r="24935" b="0"/>
          <a:stretch/>
        </p:blipFill>
        <p:spPr>
          <a:xfrm>
            <a:off x="304920" y="76212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00200" y="228600"/>
            <a:ext cx="7315200" cy="6324480"/>
          </a:xfrm>
          <a:prstGeom prst="rect">
            <a:avLst/>
          </a:prstGeom>
          <a:solidFill>
            <a:srgbClr val="ffffff">
              <a:alpha val="81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lin 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 In the factory scene: What did the         Billow’s Machin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 What does the Tramp and the Minister’s wife have in comm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 Name one job you saw Chaplin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 Name one other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)  At first, why does the Tramp try to go back to j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mp (Little Fell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lin’s character 1915-1930s was called t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r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, in society, does the Tramp repre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is the Tramp a put-dow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mp (Little Fell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mp = survives because of his/her whi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consistentl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other ex:  Lady and the Tr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bos=  “transient worker”, travels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ms = do not look for work, do not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http://empax.org/wp-content/uploads/2009/02/hobos.jpg"/>
          <p:cNvPicPr/>
          <p:nvPr/>
        </p:nvPicPr>
        <p:blipFill>
          <a:blip r:embed="rId1"/>
          <a:stretch/>
        </p:blipFill>
        <p:spPr>
          <a:xfrm>
            <a:off x="304920" y="152280"/>
            <a:ext cx="3541680" cy="4953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3114720" cy="4267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4996" t="11376" r="52510" b="0"/>
          <a:stretch/>
        </p:blipFill>
        <p:spPr>
          <a:xfrm>
            <a:off x="6781680" y="228600"/>
            <a:ext cx="1738440" cy="4781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rcRect l="19815" t="0" r="28172" b="0"/>
          <a:stretch/>
        </p:blipFill>
        <p:spPr>
          <a:xfrm>
            <a:off x="5486400" y="2362320"/>
            <a:ext cx="1600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9:31:43Z</dcterms:created>
  <dc:creator>IT Department</dc:creator>
  <dc:description/>
  <dc:language>en-US</dc:language>
  <cp:lastModifiedBy>IT Department</cp:lastModifiedBy>
  <dcterms:modified xsi:type="dcterms:W3CDTF">2012-02-14T14:38:30Z</dcterms:modified>
  <cp:revision>24</cp:revision>
  <dc:subject/>
  <dc:title>Slide 1</dc:title>
</cp:coreProperties>
</file>